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59B3-0A95-4647-8E08-08B7F3BE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BD99-4AF9-4C3A-8A86-EAC5B075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3F9265-78DD-4C21-A87A-912454B5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77A0F7-43FB-4A9D-8E8F-9A7EAC2B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AC8F31-925E-4EAC-A5B2-2C4FD74D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A3B5C5-9889-442E-B327-B2D1327E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9722D-F47C-4EFD-86C0-C768BDBB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AEC6CA-84FC-4AB8-B371-F6C75110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AAC85A-E62E-4513-A7DE-10CB8C8C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AA545A-92C2-4625-A516-E445AFB5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83E7A8-2ECA-4A10-A8F8-07ACEB3F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DE460-3FCF-460E-A4BE-8CF1E5CD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CCC2-6CB7-4E99-8550-02E530F1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8E1912-0BDE-46CA-AEA3-98B142D9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4F90C0-A5A9-47D7-98D4-F99A219A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80A7F-FAA3-4FB6-9BBE-90857242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007333-47BC-4C7D-BDCF-C1C07743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28A300-9EB3-4888-8E7B-4B9B7CDC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3264AE-6DA1-4876-BD6E-0F305024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EE9A2F-F0B6-43F9-9257-6E2A5D8A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23C61C-5014-47A7-A050-B9A661D3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EE7AE0-70FB-4B84-94A7-1ADDA268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895E0C-2934-4D56-9DFA-9DF523C2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FF92-E97F-4AB2-A65F-B0A35BA35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46C682-9EDC-411B-A660-97780DE75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7C63D-0D33-40EC-B898-14AC61D7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F30B2-AC59-43D4-91E8-D1454CA0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88694-403E-46D7-9E87-FA2486463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516B58-C7D4-4218-B05E-C74B8655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5BCA2-AF14-4ABB-B8DF-94210B10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FE27D-ECFC-484F-BFE2-440CEDD1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C8238-3F03-42E2-B9B5-CC421DF9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8D2D7D-0B1A-4FFD-BA9F-3D085BD4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A23ED-0C7B-43B6-8944-C8826405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EA5E8-66EF-423A-A1A5-2DC6CCD3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1ADAA-394C-459A-B723-361B016F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EF3C91-7BCE-430B-B5A6-80229FDB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0F4E1-6418-43B9-B848-3F24666B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0EF974-C553-4116-95EC-0BC5E753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EA2983-383C-4A23-8394-C3AC403E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88D2F7-4EEC-45D6-80D4-210944D7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DF597C-9CA6-4334-9CA6-48AAD7CB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E6906F-15C0-446A-B18E-F152FDF4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67F4FC-9486-4660-B72F-57995044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394FD1-0BB9-4D8E-8274-E6188F4A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4E4D-889F-4B3E-9705-8E9D74E2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0E706F-FCF6-44C5-BA7A-4D241F56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58AB59-0674-4FA7-BE21-7F7C2586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7C3E9A-8058-49F5-898B-2A9AC0A7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28BDCC-21F8-429B-8659-491DBCA9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AF3AB1-FBB4-4BFB-A61E-DFBEB11C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839D-140F-4DA1-8447-950D2347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BF25-9942-4E43-BEAA-4908866F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D276-79D7-454F-B9CF-40A70D0F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B151-445D-4C87-965A-6318300E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1887-757A-402B-8EE5-769A2E3B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537D-97A0-4DF9-B4FB-52FDCF01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E7E5-41F1-41BF-A086-5AEA659B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FBB24-31ED-49C2-B3A9-425EAF14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AE35-B473-4C64-8528-EE181F13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FA89-EF7B-48A3-84B8-24A8DA95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488E-E668-4821-A077-4AFDB6B5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25BDC-F491-49E6-A289-4B70BEFB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32456-EEBF-43D1-A0ED-42A9109E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271E1-1A2C-4BB9-AE6F-005EC6C0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B9A4D-BDEF-4586-B5AF-FBDD542A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7F6B8-BBDE-4836-8769-995A2173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8707-8231-4AE6-A483-49368669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2FEEC-1681-47DA-80F7-2E27365F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7935F-3DDE-4515-8F88-362CCD8C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D10E9-737A-4365-8FF9-CAE848BD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1B1AE-2848-4830-BB06-7BF37710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CDEC8-2BFE-4C5E-B24C-F9EDAA66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9F886-2BD8-46CD-AB24-FCBDAF53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7B50E-A774-442F-948E-95F4AC6A8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10903-49A0-4129-9AB3-E2056B38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56560-B3D0-4EC7-8479-5CCE8EE4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136B1-E317-4DA7-9168-2DD973F4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6A42-C541-4343-AE4E-0B8371D9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0E377-994F-4B7E-BDBD-BC99BA72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FA170-5B94-4EC4-AD4C-CE244BE6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4BE82-B259-4E89-A019-D6EE5B60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7756A-AA58-4DB0-BFE5-0C5A46C9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CE610-A85B-4B97-8F92-F236534D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C793D-F475-4B00-9E21-9D3F55C6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899D6-7BCD-4B45-94E1-9BE0E67E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8789B-546B-4EC2-B112-8A26D6C4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6AB18-68A1-4B62-B68C-F325B87D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E9466-47FA-4F75-BFFD-3DCEA088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44C-B389-45C8-A12F-A8EAE5A6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E61F3-C325-472B-8B02-4F520D71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92069-A172-4620-90BD-B36885EE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C9330-6B70-47ED-8855-A3B60449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9C14E-285B-4333-A12C-57880FA5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8027F-9CFA-4655-A398-685C8624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9E950-9AC1-4C2B-A8B9-1FC04F0F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84AC9-A23A-4C1E-8B19-02611586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D63A5-6D51-4333-878E-17E0F73C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3478D-CD9A-4DC3-A91E-BDE76560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E8E9C-D2ED-4EAE-B681-01BC5004B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0958-AA0E-4F11-B8B9-552D8519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CD250-7C3C-4035-91ED-3E6525A8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ACC53-0B47-4DC5-8F13-873AEDF7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BC35F-3037-4A49-99C3-60A2E3EB3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4229E-7A27-425C-9152-2C41CAC0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179E5-7DB6-493A-B08F-B2F31BD8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FAA4E-276C-469C-B1B7-A61611DF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C3407-396E-4C93-BD45-8766E3EB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E88FF-03B2-4172-B92F-63AAFC91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F15D0-DD82-48F2-8EAE-C5BB15F4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2CBA6-8FBB-463C-ACEB-59E1489C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63D3-4056-4FB2-81C3-EBC8F5F1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56354-1C40-4382-8C2B-ED51F8C8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2FEA11-3884-4C03-821C-A3A5A627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3E494-595A-44C7-B28C-C1FF529D8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40BED-E343-4FEE-BA1B-B42E2ED4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39419-2110-43D8-B178-056BAE68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52E9D-CF42-4F23-92E1-EE783313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1F1B0-AA1C-4B31-B777-F6F84762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3921C-D54B-4575-82B4-1A7D0B8A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15B40-5815-4409-A480-44A2666D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3C35A-C3A2-45A1-8A3E-EDDE7CCE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19A2-3197-493C-851B-C771D908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60A58-4923-4075-B55F-337E81DA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B30C4-88E6-4AFF-AC7D-B79B5893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306D0-04FE-4ECD-9F24-CB9C3A962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87BAE-5C09-4F92-9ACF-C52A454D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518AD-3E79-49BC-B089-1CAF97386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B5C31-3AF6-456B-8A38-72286AB5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41BB2-5FB0-4F4E-8D64-F3B6266D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4473E-A5BF-4D36-975F-A2C4C439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E889E-6B8E-4720-9C05-391E56B3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5F71D-C990-498E-BE98-B9E930B0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FC8-6032-4A61-A234-279DE990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E7D1C-961D-4E2B-9AC9-4527645E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B1631-8FBD-4789-8954-8E0A6B61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90242-651E-444F-83B5-F683A626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016B8-B5EE-4BBD-BEBB-362DF7BE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46669-C2C3-4CC9-94A3-1111D96D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2E8D6-A329-434B-A05E-AD3F262B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09237-4A01-4993-B743-3E54890C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A3326-9CF3-461C-AB53-CFD1B904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A9A76F-23A6-4939-8390-CA88A6CD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2BD076-631D-4DA6-8790-5149119C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3657-5F9A-4A08-B7A9-A7271EBD660F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E22C-C649-476A-B508-C292A231533A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0D19-3777-4B95-9A4E-33F2BCE2ACD4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6ED3-C9AF-4F0F-9703-10DBE2F85600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160D-0F65-490E-BC22-1B071871FD94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764B-EFBF-42F7-A751-F8FB5279F6F5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A36C-AA75-4E63-B432-7CA4AC4E965F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F345-02AD-422F-A05C-0616DBF7167C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D0B0-691F-4548-9018-5F5A91E422A9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A089-8466-4077-A8DE-FDC71C3DE125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B2C0-0999-44E2-A2FD-C0266063627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E725-9FC3-4601-B496-EA1BA5F27E07}" type="slidenum">
              <a:rPr b="0" lang="ru-RU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io.1september.ru/2003/42/11.gif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bio.1september.ru/2003/42/9.gif" TargetMode="Externa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3124080" y="685800"/>
            <a:ext cx="563904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ВИДА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олог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124080" y="685440"/>
            <a:ext cx="563904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том, что два вида не могут занимать одну экологическую нишу. Следовательно, каждый вид характеризуется своими собственными отношениями со средой обитания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Текст 2"/>
          <p:cNvSpPr/>
          <p:nvPr/>
        </p:nvSpPr>
        <p:spPr>
          <a:xfrm>
            <a:off x="250920" y="3357720"/>
            <a:ext cx="252864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соби одного вида могут жить в несколько различающихся условиях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дуванчик может расти и в лесу, и на луг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4" descr="{59CA379D-97F2-428B-889F-896C00A210DC}"/>
          <p:cNvPicPr/>
          <p:nvPr/>
        </p:nvPicPr>
        <p:blipFill>
          <a:blip r:embed="rId1"/>
          <a:stretch/>
        </p:blipFill>
        <p:spPr>
          <a:xfrm>
            <a:off x="5508720" y="3213000"/>
            <a:ext cx="3349440" cy="3191040"/>
          </a:xfrm>
          <a:prstGeom prst="rect">
            <a:avLst/>
          </a:prstGeom>
          <a:ln w="57240">
            <a:solidFill>
              <a:srgbClr val="04617b"/>
            </a:solidFill>
            <a:miter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85840" y="914400"/>
            <a:ext cx="24573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изиолог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24000" y="4292640"/>
            <a:ext cx="2457360" cy="19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Есть близкие виды, имеющие сходные процессы жизнедеятельност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132000" y="691920"/>
            <a:ext cx="563904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сходстве процессов жизнедеятельности и возможности получения плодовитого потомства при скрещивани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7" name="Picture 3" descr="C:\Documents and Settings\USER\Рабочий стол\урок\рисунки\горбуша.jpg"/>
          <p:cNvPicPr/>
          <p:nvPr/>
        </p:nvPicPr>
        <p:blipFill>
          <a:blip r:embed="rId1"/>
          <a:stretch/>
        </p:blipFill>
        <p:spPr>
          <a:xfrm>
            <a:off x="3059280" y="2276640"/>
            <a:ext cx="4213080" cy="20556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2" descr="C:\Documents and Settings\USER\Рабочий стол\урок\рисунки\кета.jpeg"/>
          <p:cNvPicPr/>
          <p:nvPr/>
        </p:nvPicPr>
        <p:blipFill>
          <a:blip r:embed="rId2"/>
          <a:stretch/>
        </p:blipFill>
        <p:spPr>
          <a:xfrm>
            <a:off x="4716360" y="4276800"/>
            <a:ext cx="4213440" cy="208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тор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124080" y="685440"/>
            <a:ext cx="563904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изучении истории вида или группы видов. Этот критерий носит комплексный характер, поскольку включает сравнительный анализ современных ареалов видов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нет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2928960" y="685440"/>
            <a:ext cx="621504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явлении репродуктивной изоляци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buClr>
                <a:srgbClr val="04617b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ные сроки размножения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buClr>
                <a:srgbClr val="04617b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ное устройство половых аппаратов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buClr>
                <a:srgbClr val="04617b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оплодотворение произошло, то погибает зародыш или молодой организм рождается нежизнеспособны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buClr>
                <a:srgbClr val="04617b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гибрид жизнеспособен, то он неплодовит (примеры: лошак, мул, хонорик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3" name="Picture 2" descr="C:\Documents and Settings\USER\Рабочий стол\урок\рисунки\xonorik.jpg"/>
          <p:cNvPicPr/>
          <p:nvPr/>
        </p:nvPicPr>
        <p:blipFill>
          <a:blip r:embed="rId1"/>
          <a:stretch/>
        </p:blipFill>
        <p:spPr>
          <a:xfrm>
            <a:off x="6300720" y="4149720"/>
            <a:ext cx="2397240" cy="2117880"/>
          </a:xfrm>
          <a:prstGeom prst="rect">
            <a:avLst/>
          </a:prstGeom>
          <a:ln w="0">
            <a:noFill/>
          </a:ln>
        </p:spPr>
      </p:pic>
      <p:sp>
        <p:nvSpPr>
          <p:cNvPr id="654" name="Текст 2"/>
          <p:cNvSpPr/>
          <p:nvPr/>
        </p:nvSpPr>
        <p:spPr>
          <a:xfrm>
            <a:off x="179280" y="4005360"/>
            <a:ext cx="2664000" cy="23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Хонорик – гибрид, полученный в результате  скрещивания хорька и европейской но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13840" y="914400"/>
            <a:ext cx="2643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ормулирование выводов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916000" y="1052640"/>
            <a:ext cx="604836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ля того, чтобы определить принадлежность особи к какому-то виду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едостаточно одного критер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необходимо учитывать совокупность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ех критериев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Содержимое 3"/>
          <p:cNvSpPr/>
          <p:nvPr/>
        </p:nvSpPr>
        <p:spPr>
          <a:xfrm>
            <a:off x="2916360" y="2349360"/>
            <a:ext cx="60483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довые критерии, по которым отличается один вид от другого, в совокупности обусловливают генетическую изоляцию видов, обеспечивая самостоятельность каждого вида и разнообразие их в приро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Содержимое 3"/>
          <p:cNvSpPr/>
          <p:nvPr/>
        </p:nvSpPr>
        <p:spPr>
          <a:xfrm>
            <a:off x="2916360" y="4005360"/>
            <a:ext cx="604836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indent="17820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т ни одного видового критерия, который можно было признать абсолютным и универсальны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Содержимое 3"/>
          <p:cNvSpPr/>
          <p:nvPr/>
        </p:nvSpPr>
        <p:spPr>
          <a:xfrm>
            <a:off x="2916360" y="5013360"/>
            <a:ext cx="6048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д представляет собой генетически относительно изолированную систему, что доказывает реальность существования видов в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2737080" cy="15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абораторная работ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Изучение морфологического критерия вида»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2842920" y="1341360"/>
            <a:ext cx="604836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: составить морфологическую характеристику двух растений одного рода, сравнить их и сделать вывод о причинах сходства и различ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ОРУДОВАНИЕ: живые растения, гербарные материалы (рисунки как дополнительный источник информации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2737080" cy="156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Лабораторная работ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Изучение морфологического критерия вида»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2987640" y="1125360"/>
          <a:ext cx="5870520" cy="4457880"/>
        </p:xfrm>
        <a:graphic>
          <a:graphicData uri="http://schemas.openxmlformats.org/drawingml/2006/table">
            <a:tbl>
              <a:tblPr/>
              <a:tblGrid>
                <a:gridCol w="3062160"/>
                <a:gridCol w="1440000"/>
                <a:gridCol w="136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РАМЕТ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Е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Е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КОРНЕВОЙ СИС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ые, слож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жилк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крепление на стеб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орасполо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Б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янистый, одревесневш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остоячий, стелющийся, цепляющийся, вьющий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ВЕ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стория введения термина «Вид»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13840" y="1981080"/>
            <a:ext cx="2643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2987640" y="691920"/>
            <a:ext cx="58579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1782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ж. Рей (1686 г.)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иболее мелкие совокупности организмов, тождественных морфологически, тождественно размножающихся и дающих потомство, сохраняющее эти свойств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0" name="Picture 5" descr="33_127_06"/>
          <p:cNvPicPr/>
          <p:nvPr/>
        </p:nvPicPr>
        <p:blipFill>
          <a:blip r:embed="rId1"/>
          <a:stretch/>
        </p:blipFill>
        <p:spPr>
          <a:xfrm>
            <a:off x="285840" y="2000160"/>
            <a:ext cx="2500200" cy="3816360"/>
          </a:xfrm>
          <a:prstGeom prst="rect">
            <a:avLst/>
          </a:prstGeom>
          <a:ln w="28440">
            <a:solidFill>
              <a:srgbClr val="dbf5f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1" name="Picture 6" descr="45_178"/>
          <p:cNvPicPr/>
          <p:nvPr/>
        </p:nvPicPr>
        <p:blipFill>
          <a:blip r:embed="rId2"/>
          <a:stretch/>
        </p:blipFill>
        <p:spPr>
          <a:xfrm>
            <a:off x="250920" y="1989000"/>
            <a:ext cx="2500200" cy="3929040"/>
          </a:xfrm>
          <a:prstGeom prst="rect">
            <a:avLst/>
          </a:prstGeom>
          <a:ln w="28440">
            <a:solidFill>
              <a:srgbClr val="dbf5f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2" name="Picture 5" descr="45_179"/>
          <p:cNvPicPr/>
          <p:nvPr/>
        </p:nvPicPr>
        <p:blipFill>
          <a:blip r:embed="rId3"/>
          <a:stretch/>
        </p:blipFill>
        <p:spPr>
          <a:xfrm>
            <a:off x="250920" y="1989000"/>
            <a:ext cx="2500200" cy="3929040"/>
          </a:xfrm>
          <a:prstGeom prst="rect">
            <a:avLst/>
          </a:prstGeom>
          <a:ln w="28440">
            <a:solidFill>
              <a:srgbClr val="dbf5f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3" name="Picture 5" descr="42_162"/>
          <p:cNvPicPr/>
          <p:nvPr/>
        </p:nvPicPr>
        <p:blipFill>
          <a:blip r:embed="rId4"/>
          <a:stretch/>
        </p:blipFill>
        <p:spPr>
          <a:xfrm>
            <a:off x="250920" y="1989000"/>
            <a:ext cx="2571480" cy="4000680"/>
          </a:xfrm>
          <a:prstGeom prst="rect">
            <a:avLst/>
          </a:prstGeom>
          <a:ln w="19080">
            <a:solidFill>
              <a:srgbClr val="dbf5f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4" name="Picture 10" descr="C:\Documents and Settings\USER\Рабочий стол\урок\mayr_90.JPG"/>
          <p:cNvPicPr/>
          <p:nvPr/>
        </p:nvPicPr>
        <p:blipFill>
          <a:blip r:embed="rId5"/>
          <a:stretch/>
        </p:blipFill>
        <p:spPr>
          <a:xfrm>
            <a:off x="250920" y="1989000"/>
            <a:ext cx="2571480" cy="4071960"/>
          </a:xfrm>
          <a:prstGeom prst="rect">
            <a:avLst/>
          </a:prstGeom>
          <a:ln w="0">
            <a:noFill/>
          </a:ln>
        </p:spPr>
      </p:pic>
      <p:sp>
        <p:nvSpPr>
          <p:cNvPr id="615" name="Содержимое 3"/>
          <p:cNvSpPr/>
          <p:nvPr/>
        </p:nvSpPr>
        <p:spPr>
          <a:xfrm>
            <a:off x="2916360" y="1773360"/>
            <a:ext cx="585792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рл Линней (1735 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ножество родственных и сходных по строению организмов, при размножении непрерывно воспроизводящих себе подоб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сматривал виды как объективно существующие группы живых организмов, достаточно легко отличимые друг от друг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читал их неизменными, раз и навсегда созданными бог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Содержимое 3"/>
          <p:cNvSpPr/>
          <p:nvPr/>
        </p:nvSpPr>
        <p:spPr>
          <a:xfrm>
            <a:off x="2916360" y="3500280"/>
            <a:ext cx="5857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Ж.Б. Ламарк (1802 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ды постоянно изменяются, эволюционируют, поэтому реально в природе не существую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Содержимое 3"/>
          <p:cNvSpPr/>
          <p:nvPr/>
        </p:nvSpPr>
        <p:spPr>
          <a:xfrm>
            <a:off x="2916360" y="4365720"/>
            <a:ext cx="58579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арльз Дарв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иды реально существуют, но изменяются, т.е. относительно постоянны и являются результатом эволюционного разви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Содержимое 3"/>
          <p:cNvSpPr/>
          <p:nvPr/>
        </p:nvSpPr>
        <p:spPr>
          <a:xfrm>
            <a:off x="2987640" y="5157720"/>
            <a:ext cx="5857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indent="1857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рнст Майр (1942 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иологическая концепция вида: виды определяются не различием, а обособленностью, состоят из популяций, главным свойством вида является репродуктивная изоля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ение термина «Вид»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2987280" y="1557000"/>
            <a:ext cx="59641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ИД – исторически сложившаяся совокупность особей, обладающих наследственным сходством морфологических, физиологических и биохимических особенностей, свободно скрещивающихся и дающих плодовитое потомство, приспособленных к определенным условиям жизни и занимающих определенный ареал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пределение термина «Популяция»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2987280" y="1557000"/>
            <a:ext cx="59641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ПУЛЯЦИЯ - совокупность особей того или иного вида, в течение большого числа поколений населяющих определенное пространство, внутри которого особи могут относительно свободно скрещиваться друг с другом, в то время как обмен особями с соседними популяциями в значительной мере затруднен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итерии вида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2987280" y="1341360"/>
            <a:ext cx="563868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ТЕРИИ ВИДА – это признаки, по которым один вид можно отличить от другого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фолог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изиолог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нет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колог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еограф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18576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торический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79280" y="914400"/>
            <a:ext cx="2664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рфолог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2928960" y="685800"/>
            <a:ext cx="603576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существовании морфологических признаков, характерных для одного вида, но отсутствующих у других вид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5" descr="45_183"/>
          <p:cNvPicPr/>
          <p:nvPr/>
        </p:nvPicPr>
        <p:blipFill>
          <a:blip r:embed="rId1"/>
          <a:stretch/>
        </p:blipFill>
        <p:spPr>
          <a:xfrm>
            <a:off x="4140360" y="2708280"/>
            <a:ext cx="3421080" cy="3298680"/>
          </a:xfrm>
          <a:prstGeom prst="rect">
            <a:avLst/>
          </a:prstGeom>
          <a:ln w="19080">
            <a:solidFill>
              <a:srgbClr val="dbf5f9"/>
            </a:solidFill>
            <a:miter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13840" y="914400"/>
            <a:ext cx="278604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рфолог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85840" y="1981080"/>
            <a:ext cx="2457360" cy="13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Существуют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иды-двойник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6" descr="i?id=40698598&amp;tov=4"/>
          <p:cNvPicPr/>
          <p:nvPr/>
        </p:nvPicPr>
        <p:blipFill>
          <a:blip r:embed="rId1"/>
          <a:stretch/>
        </p:blipFill>
        <p:spPr>
          <a:xfrm>
            <a:off x="5500800" y="2928960"/>
            <a:ext cx="3446280" cy="3386160"/>
          </a:xfrm>
          <a:prstGeom prst="rect">
            <a:avLst/>
          </a:prstGeom>
          <a:ln w="57240">
            <a:solidFill>
              <a:srgbClr val="04617b"/>
            </a:solidFill>
            <a:miter/>
          </a:ln>
        </p:spPr>
      </p:pic>
      <p:pic>
        <p:nvPicPr>
          <p:cNvPr id="631" name="Picture 4" descr="i?id=9041691&amp;tov=7"/>
          <p:cNvPicPr/>
          <p:nvPr/>
        </p:nvPicPr>
        <p:blipFill>
          <a:blip r:embed="rId2"/>
          <a:stretch/>
        </p:blipFill>
        <p:spPr>
          <a:xfrm>
            <a:off x="3000240" y="642960"/>
            <a:ext cx="2857680" cy="2857320"/>
          </a:xfrm>
          <a:prstGeom prst="rect">
            <a:avLst/>
          </a:prstGeom>
          <a:ln w="57240">
            <a:solidFill>
              <a:srgbClr val="04617b"/>
            </a:solidFill>
            <a:miter/>
          </a:ln>
        </p:spPr>
      </p:pic>
      <p:sp>
        <p:nvSpPr>
          <p:cNvPr id="632" name=""/>
          <p:cNvSpPr/>
          <p:nvPr/>
        </p:nvSpPr>
        <p:spPr>
          <a:xfrm>
            <a:off x="2987640" y="4292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ха-журчалка и 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ограф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2928960" y="685800"/>
            <a:ext cx="583416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нован на том, что каждый вид занимает определенную территорию (или акваторию) – географический ареал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10" descr="Картинка 1 из 3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221000"/>
            <a:ext cx="3024360" cy="2143440"/>
          </a:xfrm>
          <a:prstGeom prst="rect">
            <a:avLst/>
          </a:prstGeom>
          <a:ln w="57240">
            <a:solidFill>
              <a:srgbClr val="04617b"/>
            </a:solidFill>
            <a:miter/>
          </a:ln>
        </p:spPr>
      </p:pic>
      <p:pic>
        <p:nvPicPr>
          <p:cNvPr id="636" name="Picture 8" descr="Картинка 1 из 3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59280" y="2708280"/>
            <a:ext cx="3024000" cy="2128680"/>
          </a:xfrm>
          <a:prstGeom prst="rect">
            <a:avLst/>
          </a:prstGeom>
          <a:ln w="57240">
            <a:solidFill>
              <a:srgbClr val="04617b"/>
            </a:solidFill>
            <a:miter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13840" y="914400"/>
            <a:ext cx="2529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ографический критерий</a:t>
            </a:r>
            <a:endParaRPr b="0" lang="en-US" sz="20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13840" y="1981080"/>
            <a:ext cx="2643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В одном ареале могут жить особи разных видов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ареал распространения серебристой чайки и клуши-хохотунь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Documents and Settings\USER\Рабочий стол\урок\рисунки\ареал чайки.jpg"/>
          <p:cNvPicPr/>
          <p:nvPr/>
        </p:nvPicPr>
        <p:blipFill>
          <a:blip r:embed="rId1"/>
          <a:stretch/>
        </p:blipFill>
        <p:spPr>
          <a:xfrm>
            <a:off x="3000240" y="571680"/>
            <a:ext cx="5929560" cy="5808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04T16:06:17Z</dcterms:modified>
  <cp:revision>68</cp:revision>
  <dc:subject/>
  <dc:title>PowerPoint Presentation</dc:title>
</cp:coreProperties>
</file>